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wmf" ContentType="image/x-wmf"/>
  <Override PartName="/ppt/media/image5.wmf" ContentType="image/x-wmf"/>
  <Override PartName="/ppt/media/image7.jpeg" ContentType="image/jpeg"/>
  <Override PartName="/ppt/media/image10.wmf" ContentType="image/x-wmf"/>
  <Override PartName="/ppt/media/image6.wmf" ContentType="image/x-wmf"/>
  <Override PartName="/ppt/media/image8.jpeg" ContentType="image/jpeg"/>
  <Override PartName="/ppt/media/image9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4631C-BCDF-4D96-8192-A6EB00ADCD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255EB-6179-45CA-B46D-986363370779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 consecuencian negativas graves para la salud o de muerte para personas o anim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F3463-26AA-4898-B958-3FD1A1A18B1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Hot top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E8BB-BD80-4532-B835-AC97FEC93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7B49-8F09-409F-A93B-8FD36A618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E517-E73F-4712-B6C1-745B6F16B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D3FA-5756-4FC6-AB80-B8E674474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91A54-AA23-4790-9BE2-2B8E13A8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2D4AB-BE90-48B5-B1F8-16615BB4D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9933D-1C34-447B-9299-95FF468B5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DF9E7-5995-477B-AA9E-7D81C8FF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6FE2-6FCD-481B-8944-843E3C6B3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B7B03-64D0-4464-8295-A2AE6408E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BAA90-A8B5-4428-9B3E-65E09442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59C-CD14-4800-A050-F73993F76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01BD2-F635-4593-9DCF-0BB621E1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2746-DE77-418E-8508-459A8C8E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3ADBA-35FD-4E2A-9DB0-CA963D38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2356-23A1-4635-9770-F014F04E8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FC9CD-C53F-4AA8-8A89-A972FEA6B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39B8-762F-4E14-A490-065F425AF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3EBE-5A8E-4B66-898E-22C55B815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5BBD-716F-4A9E-89E4-46830DA75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2AD4-D27F-4A44-9B36-BB0700A8A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600F8-E538-4CB8-B203-80542D4B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46662-059D-45D3-B07F-CAF53E2D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4A38-291B-410E-BEB1-3D35669C6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8FE1-0D70-4B7A-B2DC-47CAB8C10FEC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4E2D0-BA43-4E0E-A079-35FF4C949729}" type="slidenum">
              <a:rPr b="0" lang="es-E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hyperlink" Target="mailto:eordoqui@latu.org.uy" TargetMode="Externa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“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Normas, Controles y Bioterrorismo“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5486400"/>
            <a:ext cx="1615680" cy="1401120"/>
            <a:chOff x="0" y="5486400"/>
            <a:chExt cx="1615680" cy="1401120"/>
          </a:xfrm>
        </p:grpSpPr>
        <p:grpSp>
          <p:nvGrpSpPr>
            <p:cNvPr id="164" name=""/>
            <p:cNvGrpSpPr/>
            <p:nvPr/>
          </p:nvGrpSpPr>
          <p:grpSpPr>
            <a:xfrm>
              <a:off x="0" y="5486400"/>
              <a:ext cx="1615320" cy="1400400"/>
              <a:chOff x="0" y="5486400"/>
              <a:chExt cx="1615320" cy="1400400"/>
            </a:xfrm>
          </p:grpSpPr>
          <p:sp>
            <p:nvSpPr>
              <p:cNvPr id="165" name=""/>
              <p:cNvSpPr/>
              <p:nvPr/>
            </p:nvSpPr>
            <p:spPr>
              <a:xfrm>
                <a:off x="0" y="5486400"/>
                <a:ext cx="360" cy="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486400"/>
                <a:ext cx="1615320" cy="1400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  </a:t>
                </a:r>
                <a:r>
                  <a:rPr b="0" lang="en-US" sz="3900" spc="-1" strike="noStrike">
                    <a:solidFill>
                      <a:srgbClr val="ffffff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         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0" y="5486400"/>
              <a:ext cx="1615680" cy="140112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68" name="" descr="Laboratorio Tecnológico del Uruguay"/>
          <p:cNvPicPr/>
          <p:nvPr/>
        </p:nvPicPr>
        <p:blipFill>
          <a:blip r:embed="rId1"/>
          <a:stretch/>
        </p:blipFill>
        <p:spPr>
          <a:xfrm>
            <a:off x="250920" y="5589720"/>
            <a:ext cx="1341360" cy="10540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886200" y="3114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4575240"/>
            <a:ext cx="5076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29 de enero de 20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Country Club Lima Hot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ma PER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Lic. Elina Ordoqu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68360" y="1413000"/>
          <a:ext cx="4321440" cy="3425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268360" y="1413000"/>
                    <a:ext cx="4321440" cy="34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FDA deberá recibir notificación previa de todas y cada una de las partidas de alimentos que entren en los EEUU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cluye: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scripción de todos los artícul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bricante y el embarcad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ductor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originari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ís desde el que se envía el artícul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uerto de entrada previst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odía del día antes de que llega el envío (no menos de 8 horas) y no más de 5 días antes del envío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partir del 12 de diciembre de 2003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tacto en la FDA - Mary Ayling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1-436-2428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br>
              <a:rPr sz="40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toriza a la FDA a retener administrativamente alimentos si la Agencia tiene pruebas o información creíble de que dichos alimentos representan una amenaz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cesita instituir procedimientos para los alimentos perecede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acto en la FDA  - Marquita Steadman 301-827-6733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ansi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íodo de transición (Implementación) de 8 meses hasta el 12 de Agosto de 2004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 ser interpretado como un período en el cual se van a permitir errores y no como el alargamiento de los plazos para su cumpl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www.fda.gov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Bioterrorism Act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Verdana"/>
              </a:rPr>
              <a:t>http://www.fda.gov/oc/bioterrorism/bioact.html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1128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 un tema que nos compete a todos, por lo que exige un tratamiento integral e inmediato de responsabilidad compartid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Que papel jugamos y la responsabilidad que tiene cada un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bemos asegurar una efectiva capacitación del personal involucrado en las operaciones logístic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ff"/>
                </a:solidFill>
                <a:latin typeface="Arial"/>
              </a:rPr>
              <a:t>¿QUIÉNES ESTAN INVOLUCRADOS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sonas que fabrican, procesan, envasan, distribuyen ,reciben, almacenan o importan alimentos estarán obligados a crear y mantener registr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Permitir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364000" y="3716280"/>
            <a:ext cx="3578400" cy="238608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79200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66"/>
                </a:solidFill>
                <a:latin typeface="Verdan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395280" y="620640"/>
            <a:ext cx="8209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a muchas empresas el precio y la                                                calidad están dados y el elemento    diferenciador es la capacidad de entrega del   Producto o Servicio, demostrando seguridad      en la operació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981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los requisitos de infraestructur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Marco Regulatorio y los Procedimientos a seguir para cumplirlo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 único seguro, es apuntar a la flexibilidad para adaptarnos rápidamente a los camb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reciente complejidad en el comercio exterior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Mayor Información al alcance de nuestros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Necesidad de poder demostrar la trazabilidad de los productos y Servicio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1549800" y="549360"/>
            <a:ext cx="618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La Realidad del Mundo Actu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 en la cadena logístic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2296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mentar la Normalización y estandarización de procedimientos de seguridad de exportaciones, previniendo los riesgos, en cumplimiento con la nueva ley de Bioseguridad de EEU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cución de acciones preventivas, destinadas a dar confianza en la seguridad de la carga y así permitir el correcto flujo de mercaderías sin turbulencia en la cadena logística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64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ontroles: Auditoría de Logística Segura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6280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Proceso sistemático, independiente y documentado, para obtener evidencia de la auditoría y evaluarla de manera objetiva, con el fin de determinar la extensión en que se cumplen los criterios de la mism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arga segura, logística de recibo y despacho de la carga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rol de inocuidad y características de la carga transportad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ertificación de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el material y las características del empaqu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cintos y sellos de segur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rolar documentos y formularios que permitan la trazabilidad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360" y="2060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egración de todos los actores, tanto públicos como privados, para dar confiabilidad en el sistema y que nos elijan como un eslabón integrante de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ntaja competitiva en materia de Seguridad en toda la Cadena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y Seguridad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ablecer niveles de riesgo y procedimientos simples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las cadenas de abastecimient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Fortalecer el comercio internacional de una manera ágil y segura, mediante la aplicación de estándares y procedimientos de seguridad, reconocidos y avalados internacionalm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281800" cy="106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eneficios de una 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229600" cy="46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ertificación que facilite la entrada a los mercados internacionale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ucir el riesgo de que cargas legales sean utilizadas para actividades ilícita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timizar los procesos y operacione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la caden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ar el intercambio comercial con segur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55280" y="1267920"/>
            <a:ext cx="7859880" cy="40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 Certificación de la Carga, nos va a permitir que los productos fluyan correctamente a lo largo de la cadena logística, desde el punto de origen o fabricación, a su cliente final, en cualquier lugar del mundo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 no estamos reconocidos y no generamos confianza, nuestros productos pueden terminar en puertos de cuarentena para ser inspeccionados, con la consiguiente pérdida potencial de la carg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ff"/>
                </a:solidFill>
                <a:latin typeface="Arial"/>
              </a:rPr>
              <a:t>Logística Segur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gregar valor al Sistema de Gestión de Calidad, Certificando también la Seguridad, aumenta la diferencia frente a la competenc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Así lograremos captar y/o mantener nuevos mercados y clientes.</a:t>
            </a: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¿Como se logra esto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362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niendo muy claro los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equisitos del cliente, las normas y reglamentos vigentes, en cada mercado particular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medio del intercambio fluido y transparente de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información precisa y a tiempo, con los proveedores y cliente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da eslabón de la cadena debe ser: eficiente, flexible, ágil y orientado hacia el cliente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3008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Hoy una buena tecnología y una buena calidad son necesarios, </a:t>
            </a:r>
            <a:r>
              <a:rPr b="1" lang="en-US" sz="4400" spc="-1" strike="noStrike" u="sng">
                <a:solidFill>
                  <a:srgbClr val="ffffff"/>
                </a:solidFill>
                <a:uFillTx/>
                <a:latin typeface="Arial"/>
              </a:rPr>
              <a:t>pero no suficientes.</a:t>
            </a:r>
            <a:br>
              <a:rPr sz="4400"/>
            </a:b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95280" y="765000"/>
            <a:ext cx="56880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Debemos trabajar integrando los procesos de toda la cadena, buscando optimizar procesos y reducir costos, asumiendo los nuevos requerimientos impuestos por nuestro cliente, sin perder competitividad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or lo tanto, debemos buscar soluciones integrales a estos nuevos desafíos, contemplando que ya hoy nuestros costos logísticos son muy superiores respecto a Europa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227640" y="1916280"/>
            <a:ext cx="26528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6" name=""/>
          <p:cNvGraphicFramePr/>
          <p:nvPr/>
        </p:nvGraphicFramePr>
        <p:xfrm>
          <a:off x="1979640" y="620640"/>
          <a:ext cx="5549760" cy="351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620640"/>
                    <a:ext cx="554976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1332000" y="4797360"/>
          <a:ext cx="6885000" cy="573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32000" y="4797360"/>
                    <a:ext cx="6885000" cy="57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3036600" y="5670720"/>
            <a:ext cx="30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  <a:hlinkClick r:id="rId5"/>
              </a:rPr>
              <a:t>eordoqui@latu.org.u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ff66"/>
                </a:solidFill>
                <a:latin typeface="Arial"/>
              </a:rPr>
              <a:t>Gestión Logíst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76320" y="152280"/>
            <a:ext cx="8762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Comic Sans MS"/>
              </a:rPr>
              <a:t>Prioridades Competiti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9360" y="9360"/>
            <a:ext cx="9134640" cy="6848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9" name=""/>
          <p:cNvGraphicFramePr/>
          <p:nvPr/>
        </p:nvGraphicFramePr>
        <p:xfrm>
          <a:off x="6659640" y="6021360"/>
          <a:ext cx="1695240" cy="40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59640" y="6021360"/>
                    <a:ext cx="1695240" cy="40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"/>
          <p:cNvGraphicFramePr/>
          <p:nvPr/>
        </p:nvGraphicFramePr>
        <p:xfrm>
          <a:off x="755640" y="6021360"/>
          <a:ext cx="1554120" cy="257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55640" y="6021360"/>
                    <a:ext cx="1554120" cy="25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2627280" y="5950080"/>
          <a:ext cx="3960720" cy="511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627280" y="5950080"/>
                    <a:ext cx="3960720" cy="511200"/>
                  </a:xfrm>
                  <a:prstGeom prst="rect">
                    <a:avLst/>
                  </a:prstGeom>
                  <a:ln w="9360">
                    <a:solidFill>
                      <a:srgbClr val="0066cc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68360" y="6919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greso de más países proveedores al   mercado internacional.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icar factores que aseguren un aprovechamiento sustancial de las características propias de la agroindustria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portunidades de mejoramiento en áreas de alto impacto y difíciles de solucionar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ncronizar los esfuerzos de proveedores y clientes para satisfacer las necesidades planteadas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240120" indent="-24012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a la Comunicación entre la demanda y quienes la satisfacen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Ley de seguridad de la Salud Pública, preparación y Respuesta ante el Bioterrorismo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39640" y="2205000"/>
            <a:ext cx="8229600" cy="43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tró en vigencia a partir del 12/12/2003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 gobierno de los EEUU a partir de junio de 2002, busca organizar el control y la seguridad de los embarques con destino a su país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to involucra a todos los exportadores y operadores que participan en la logística del comercio exterior.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Nueva Legislación Contra el Bioterrorismo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rmativa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gistro de Instalaciones Alimenticias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ificación Previa de Alimentos Importad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blecimiento y Mantenimiento de Registros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tención Administrativa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24000" y="2327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s instalaciones alimenticias nacionales y extranjeras que fabrican, procesan, envasan, distribuyen, reciben o almacenan alimentos para el consumo humano o animal en los E.E.U.U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Registro de Instalaciones Alimentici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9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centos: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stalaciones reguladas de forma exclusiva por el USDA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-25704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stalaciones extranjeras si los alimentos procedentes de ella sufren un procesamiento o envasado posterior en otras instalaciones fuera de los EEUU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66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 solamente una actividad mínima, ambas instalaciones necesitan registrars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2T15:53:26Z</dcterms:created>
  <dc:creator>Juan Opertti</dc:creator>
  <dc:description/>
  <dc:language>en-US</dc:language>
  <cp:lastModifiedBy>eordoqui</cp:lastModifiedBy>
  <dcterms:modified xsi:type="dcterms:W3CDTF">2004-01-26T17:36:23Z</dcterms:modified>
  <cp:revision>56</cp:revision>
  <dc:subject/>
  <dc:title>Presentación de PowerPoint</dc:title>
</cp:coreProperties>
</file>